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pen 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abad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C760-93C3-4A26-A8B7-921311B8EB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F070-03DB-4048-815F-51242ADA4C5D}" type="slidenum">
              <a:rPr b="0" lang="it-IT" sz="12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egnaposto intestazion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ffff"/>
                </a:solidFill>
                <a:latin typeface="Times New Roman"/>
              </a:rPr>
              <a:t>Open Day </a:t>
            </a:r>
            <a:endParaRPr b="0" lang="en-US" sz="1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077-9746-4C3B-836A-518DA6A8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413064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786-8DD8-422C-8603-A9CBA26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920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A85-C480-4035-B3B0-7C46C4E6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1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323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1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323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F99-5F16-467B-84DF-4162C856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08C2-67EA-4003-A7D3-D0580D96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1FEC-170C-4C7E-8421-162F99CC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A6A2-0D2B-42E5-BE18-CE52D82D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4CE1-9C38-499C-9ED4-FA7CFBFC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03D7-478B-48B8-BAEE-EAB32ED9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239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CA8F-01BF-4802-8F53-A8332AF1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7B05-E1C8-4D64-94A0-A3DBD69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EAE-6CCF-4970-836A-03C14C15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920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3236-D06E-4810-8DF0-8A9D435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2B77-2CFC-4E57-8C4F-5E2BBEA8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1920" y="413064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6B89-6C23-49CA-9B64-3A2359A3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920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1AB7-E390-46E1-8310-7380D365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1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198108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19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1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2320" y="4130640"/>
            <a:ext cx="289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F985-E82E-488E-BC94-7A9D8EC3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816-643E-4E39-969E-3FFD4323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83C-B055-4396-988D-886A8AA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609-1494-4AB8-97BB-B158480B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7239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9FB-E14A-48F1-8BC6-EF0C420A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347-E317-41BB-B4A8-35A9B36E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9200" y="413064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FDA-3D4F-4D46-A9CD-C6269BA9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9200" y="1981080"/>
            <a:ext cx="4387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4130640"/>
            <a:ext cx="899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A1D-CD0A-4FF1-AF32-CE56806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abad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8E63-CB62-4B64-A874-B0BE5D3B41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358040" y="214200"/>
            <a:ext cx="1928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ccffff"/>
                </a:solidFill>
                <a:latin typeface="Arial Unicode MS"/>
              </a:rPr>
              <a:t>TCS</a:t>
            </a:r>
            <a:endParaRPr b="0" lang="en-US" sz="17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ccffff"/>
                </a:solidFill>
                <a:latin typeface="Arial Unicode MS"/>
              </a:rPr>
              <a:t>7 dicembre 2010</a:t>
            </a:r>
            <a:endParaRPr b="0" lang="en-US" sz="17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7707-4E73-40EE-A35A-F1A11C171A0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elicious.com/doccim0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fficiostudi.beniculturali.it/mibac/multimedia/UfficioStudi/documents/1261134207917_ICOMcarta_nazionale_versione_definitiva_2008%5B1%5D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  <a:ea typeface="Times New Roman"/>
              </a:rPr>
              <a:t>Musei, educazione e comunicazion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57200" y="3857400"/>
            <a:ext cx="648648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Lidia Falom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Dipartimento di Fisica “Volta”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usei e web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Metà anni ‘90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mparsa “musei virtuali”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Brochure elettronich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Promozione a bassi costi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Turismo cultural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Pochissima partecipazione 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                  </a:t>
            </a: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(forum)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4" marL="2016000" indent="-223920">
              <a:spcBef>
                <a:spcPts val="499"/>
              </a:spcBef>
              <a:buClr>
                <a:srgbClr val="ccffff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ff"/>
                </a:solidFill>
                <a:latin typeface="Arial Unicode MS"/>
              </a:rPr>
              <a:t>Esempio: ppp.unipv.it</a:t>
            </a:r>
            <a:endParaRPr b="0" lang="en-US" sz="20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19960" indent="-22392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</p:txBody>
      </p:sp>
      <p:pic>
        <p:nvPicPr>
          <p:cNvPr id="115" name="Immagine 4" descr="pppmuseo.jpg"/>
          <p:cNvPicPr/>
          <p:nvPr/>
        </p:nvPicPr>
        <p:blipFill>
          <a:blip r:embed="rId1"/>
          <a:stretch/>
        </p:blipFill>
        <p:spPr>
          <a:xfrm>
            <a:off x="5207040" y="2786040"/>
            <a:ext cx="3936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usei e web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980720"/>
            <a:ext cx="899172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Primi anni 2000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Web come fenomeno centrale per la divulgazione del patrimonio culturale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Progetti di digitalizzazion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Creazione di reti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Primi progetti 3D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4" marL="1974960" indent="-219240">
              <a:spcBef>
                <a:spcPts val="499"/>
              </a:spcBef>
              <a:buClr>
                <a:srgbClr val="ccffff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Arial Unicode MS"/>
            </a:endParaRPr>
          </a:p>
          <a:p>
            <a:pPr lvl="4" marL="1974960" indent="-219240">
              <a:spcBef>
                <a:spcPts val="499"/>
              </a:spcBef>
              <a:buClr>
                <a:srgbClr val="ccffff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ffff"/>
                </a:solidFill>
                <a:latin typeface="Arial Unicode MS"/>
              </a:rPr>
              <a:t>Es ppp.unipv.it Gabinetto di Fisica di Volta - Mostra Einstein</a:t>
            </a:r>
            <a:endParaRPr b="0" lang="en-US" sz="2000" spc="-1" strike="noStrike">
              <a:solidFill>
                <a:srgbClr val="ccffff"/>
              </a:solidFill>
              <a:latin typeface="Arial Unicode MS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15405" t="12330" r="16745" b="19530"/>
          <a:stretch/>
        </p:blipFill>
        <p:spPr>
          <a:xfrm>
            <a:off x="4992840" y="3143160"/>
            <a:ext cx="379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ostre temporane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pic>
        <p:nvPicPr>
          <p:cNvPr id="120" name="Segnaposto contenuto 3" descr="einst1.jpg"/>
          <p:cNvPicPr/>
          <p:nvPr/>
        </p:nvPicPr>
        <p:blipFill>
          <a:blip r:embed="rId1"/>
          <a:stretch/>
        </p:blipFill>
        <p:spPr>
          <a:xfrm>
            <a:off x="357120" y="1143000"/>
            <a:ext cx="841860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pic>
        <p:nvPicPr>
          <p:cNvPr id="122" name="Segnaposto contenuto 3" descr="einst2.jpg"/>
          <p:cNvPicPr/>
          <p:nvPr/>
        </p:nvPicPr>
        <p:blipFill>
          <a:blip r:embed="rId1"/>
          <a:stretch/>
        </p:blipFill>
        <p:spPr>
          <a:xfrm>
            <a:off x="214200" y="1143000"/>
            <a:ext cx="86439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usei e web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Ultimi ann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Apertura ai visitatori: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Facebook, YouTube, Flickr, piattaforme di blog (la blogosfera si allinea e rielabora i temi proposti dalle istituzioni)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3D e prime applicazioni di realtà aumentata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Come partecipano i visitatori?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odelli di partecipazion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285840" y="1000080"/>
            <a:ext cx="9429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ntributiv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Visitatori spinti a fornire contributi all’interno di un processo controllato e gestito dall’istituzion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llaborativ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Visitatori come partner attivi nella costruzione di un progetto ancora controllato dall’istituzione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-creativ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Visitatori e istituzione lavorano insieme, dalla progettazione agli obiettivi del progetto, sulla base degli interessi e dei bisogni della comunità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optativ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ffff"/>
                </a:solidFill>
                <a:latin typeface="Arial Unicode MS"/>
              </a:rPr>
              <a:t>L’istituzione mette a disposizione di gruppi esterni mezzi e risorse per la realizzazione di progetti</a:t>
            </a: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27" name="CasellaDiTesto 3"/>
          <p:cNvSpPr/>
          <p:nvPr/>
        </p:nvSpPr>
        <p:spPr>
          <a:xfrm>
            <a:off x="6936840" y="6396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ccffff"/>
                </a:solidFill>
                <a:uFillTx/>
                <a:latin typeface="Times New Roman"/>
              </a:rPr>
              <a:t>Nina Simo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Tipologie di visitatori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Auto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reatori di contenuti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Recenso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Commentatori, che votano e taggan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Spettato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</a:rPr>
              <a:t>Fruitori passivi del contenut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130" name="CasellaDiTesto 3"/>
          <p:cNvSpPr/>
          <p:nvPr/>
        </p:nvSpPr>
        <p:spPr>
          <a:xfrm>
            <a:off x="7079760" y="6396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ccffff"/>
                </a:solidFill>
                <a:uFillTx/>
                <a:latin typeface="Times New Roman"/>
              </a:rPr>
              <a:t>Nina Simo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Esempi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ffcc"/>
                </a:solidFill>
                <a:uFillTx/>
                <a:latin typeface="Arial Unicode MS"/>
                <a:hlinkClick r:id="rId1"/>
              </a:rPr>
              <a:t>www.delicious.com/doccim07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pic>
        <p:nvPicPr>
          <p:cNvPr id="133" name="Picture 4" descr="C:\Documents and Settings\consip\Desktop\Presentazioni convegni\PISA\Storia scienza\Home.jpg"/>
          <p:cNvPicPr/>
          <p:nvPr/>
        </p:nvPicPr>
        <p:blipFill>
          <a:blip r:embed="rId2"/>
          <a:stretch/>
        </p:blipFill>
        <p:spPr>
          <a:xfrm>
            <a:off x="3274920" y="3143160"/>
            <a:ext cx="5869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Musei e realtà aumentata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   </a:t>
            </a: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Numerosi esempi si trovano su YouTube e da essi possono essere ricavate tutte le diverse caratteristiche dei diversi tipi di realtà aumentata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Evoluzione della definizione di museo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428480"/>
            <a:ext cx="8991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ICOM (Consiglio internazionale dei musei):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15360" indent="-315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  </a:t>
            </a: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1951: il museo è l’istituzione che conserva, studia, valorizza e essenzialmente espone un insieme di elementi di valore culturale per il diletto. I beni di cui il museo si fa carico sono le collezioni di oggetti artistici, storici, scientifici e tecnici, giardini botanici e zoologici, acqua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95" name="CasellaDiTesto 3"/>
          <p:cNvSpPr/>
          <p:nvPr/>
        </p:nvSpPr>
        <p:spPr>
          <a:xfrm>
            <a:off x="214200" y="5500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ttenzione particolarmente rivolta al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atrimonio/tutela e alla esposizion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Evoluzione della definizione di museo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1142640"/>
            <a:ext cx="8991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ICOM (Consiglio internazionale dei musei):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   </a:t>
            </a:r>
            <a:r>
              <a:rPr b="0" lang="it-IT" sz="3200" spc="-1" strike="noStrike">
                <a:solidFill>
                  <a:srgbClr val="ccffff"/>
                </a:solidFill>
                <a:latin typeface="Arial"/>
                <a:ea typeface="Times New Roman"/>
              </a:rPr>
              <a:t>2001 (2004*): Il museo è un’istituzione permanente, senza scopo di lucro, al servizio della società e del suo sviluppo. È aperto al pubblico e compie ricerche che riguardano le testimonianze materiali e immateriali* dell’umanità e del suo ambiente; le acquisisce, le conserva, le comunica e, soprattutto, le espone a fini di studio, educazione e diletto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sp>
        <p:nvSpPr>
          <p:cNvPr id="98" name="CasellaDiTesto 5"/>
          <p:cNvSpPr/>
          <p:nvPr/>
        </p:nvSpPr>
        <p:spPr>
          <a:xfrm>
            <a:off x="357120" y="59342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Maggiore apertura verso la società, i bisogni e le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aspettative dei visitatori e ad una crescente attenzione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verso gli aspetti comunicativi ed educativi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Professioni museali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1920" y="1428480"/>
            <a:ext cx="89917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ccffff"/>
                </a:solidFill>
                <a:latin typeface="Arial"/>
                <a:ea typeface="Times New Roman"/>
              </a:rPr>
              <a:t>Alle figure “classiche” di esperti museali, come i curatori delle collezioni, si affiancano, e vengono professionalmente riconosciuti, gli esperti di didattica, o, meglio, di “apprendimento” museale  e, più recentemente, gli esperti di informatica e comunicazione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 u="sng">
                <a:solidFill>
                  <a:srgbClr val="00ffcc"/>
                </a:solidFill>
                <a:uFillTx/>
                <a:latin typeface="Arial"/>
                <a:ea typeface="Times New Roman"/>
                <a:hlinkClick r:id="rId1"/>
              </a:rPr>
              <a:t>Carta nazionale delle professioni museal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  <a:ea typeface="Times New Roman"/>
              </a:rPr>
              <a:t>Museo come istituzione educativa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280" y="1981080"/>
            <a:ext cx="877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Arial"/>
              </a:rPr>
              <a:t>   </a:t>
            </a: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Arial"/>
              </a:rPr>
              <a:t>Stabilito che tra gli scopi dei musei sempre più importanza viene attribuita agli aspetti educativi, 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cffff"/>
                </a:solidFill>
                <a:latin typeface="Arial Unicode MS"/>
                <a:ea typeface="Arial"/>
              </a:rPr>
              <a:t>A quale teoria educativa ci si riferisce oggi?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6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Visitatori al centro dell’attenzion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1920" y="4071960"/>
            <a:ext cx="89917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Spostamento dell’attenzione dal museo e dal suo modo di trasferire la conoscenza</a:t>
            </a: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 ai processi di apprendimento dei visitatori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267480" indent="-2674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Educatore museale come facilitatore dell’apprendimento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267480" indent="-2674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  <p:pic>
        <p:nvPicPr>
          <p:cNvPr id="105" name="Immagine 3" descr="visitat1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419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  <a:ea typeface="Times New Roman"/>
              </a:rPr>
              <a:t>Dalla didattica all’apprendimento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85840" y="1679400"/>
          <a:ext cx="8610480" cy="41785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dattica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1368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pprendimento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1368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Sistema didattico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ersone, visitatori, fruitori, studenti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Sistemi di trasmissione didattica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Valori, desideri, stili di apprendimento preferiti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rodotti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rocessi di apprendimento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Gestione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Facilitazione, abilitazione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ersonale e problematiche del museo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368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Fruitori del museo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136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1368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CasellaDiTesto 5"/>
          <p:cNvSpPr/>
          <p:nvPr/>
        </p:nvSpPr>
        <p:spPr>
          <a:xfrm>
            <a:off x="374760" y="628668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Eliean Hooper-Greenhill, Musei: didattica, apprendimento ed edutainment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Caratteri distintivi del processo educativo museale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Ambiente di apprendimento speciale 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Informale, coinvolgente, divertente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Enfasi sulle componenti attive e collaborative del processo di apprendimento 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Strategie di problem solving, exhibit interattivi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Oggetto originale come documento 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Contenitore di conoscenza, informazione, contesto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727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afabad"/>
                </a:solidFill>
                <a:latin typeface="Arial Unicode MS"/>
              </a:rPr>
              <a:t>La visita al museo</a:t>
            </a:r>
            <a:endParaRPr b="0" lang="en-US" sz="3600" spc="-1" strike="noStrike">
              <a:solidFill>
                <a:srgbClr val="afabad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1920" y="1285560"/>
            <a:ext cx="89917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</a:rPr>
              <a:t>è più efficace se p</a:t>
            </a: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receduta e seguita da un lavoro svolto individualmente o in classe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Materiali a disposizione dei visitatori e interazione-collaborazione via web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Corsi di aggiornamento per insegnanti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Museo come risorsa</a:t>
            </a: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ff"/>
                </a:solidFill>
                <a:latin typeface="Arial Unicode MS"/>
                <a:ea typeface="Times New Roman"/>
              </a:rPr>
              <a:t>Oggetti originali, exhibit, laboratori, sito internet</a:t>
            </a:r>
            <a:endParaRPr b="0" lang="en-US" sz="28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5:29:36Z</dcterms:created>
  <dc:creator>Lab Tecn educ</dc:creator>
  <dc:description/>
  <dc:language>en-US</dc:language>
  <cp:lastModifiedBy>Lidia</cp:lastModifiedBy>
  <dcterms:modified xsi:type="dcterms:W3CDTF">2010-12-17T15:33:01Z</dcterms:modified>
  <cp:revision>98</cp:revision>
  <dc:subject/>
  <dc:title>Laboratori storico-scientifici 2.0</dc:title>
</cp:coreProperties>
</file>