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pen 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abad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87AE-DD16-4000-87C6-6D297CF809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5A80-38DB-490E-8D80-8A896F3735A5}" type="slidenum">
              <a:rPr b="0" lang="it-IT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egnaposto intestazion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Times New Roman"/>
              </a:rPr>
              <a:t>Open Day </a:t>
            </a:r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77A-7509-4F73-BEEB-5608B367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194-8CE3-441F-BF4D-C5E38CCF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303-01E8-4551-80DC-33381036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1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323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1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323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ECC-F415-4994-BE84-C7F92E59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BD15-813E-4232-9FCF-F34F3955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33F6-C3E1-4584-A0FC-7416FF1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F53-6057-4845-B7B5-2A05A83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2042-BF90-4C26-9E7E-9648705F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986-B08E-4BE9-9F30-E6085D5A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239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B538-8D4A-4D18-BCD7-5018390C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A806-5923-4D9E-BA27-2A33D44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871-453F-49FF-A725-848C6EB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30D-2A1D-4A9F-8222-94B0C108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5DA-0B26-4583-A691-FD523D1E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4DE7-4525-4E63-B74B-FBA550E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E870-4D16-4B1E-A2E0-2EA41332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1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19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1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23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89A2-0D23-457D-996C-A81DD6A0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1F5-27AC-443A-874A-38C3DF7B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5D7-2848-4D55-A9D4-7EA1622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F78-CC5F-4687-811F-10872173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239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64F-E8C1-4AB2-828A-08643917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350-7501-42B2-8D07-6A35093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5AF-7ED4-4ADF-8500-87AF46F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B53-FE57-455E-BF02-A6CD66F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abad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EEA3-60D9-4708-93FC-3573DD1E1A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358040" y="214200"/>
            <a:ext cx="1928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ccffff"/>
                </a:solidFill>
                <a:latin typeface="Arial Unicode MS"/>
              </a:rPr>
              <a:t>TCS</a:t>
            </a:r>
            <a:endParaRPr b="0" lang="en-US" sz="17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ccffff"/>
                </a:solidFill>
                <a:latin typeface="Arial Unicode MS"/>
              </a:rPr>
              <a:t>7 dicembre 2010</a:t>
            </a:r>
            <a:endParaRPr b="0" lang="en-US" sz="17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07C-579A-461A-B27D-AF64C6C8FD4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elicious.com/doccim0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fficiostudi.beniculturali.it/mibac/multimedia/UfficioStudi/documents/1261134207917_ICOMcarta_nazionale_versione_definitiva_2008%5B1%5D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  <a:ea typeface="Times New Roman"/>
              </a:rPr>
              <a:t>Musei, educazione e comunicazion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57200" y="3857400"/>
            <a:ext cx="648648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Lidia Falom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Dipartimento di Fisica “Volta”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web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Metà anni ‘90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mparsa “musei virtuali”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Brochure elettronich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romozione a bassi costi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Turismo cultural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ochissima partecipazione 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                  </a:t>
            </a: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(forum)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4" marL="2016000" indent="-223920">
              <a:spcBef>
                <a:spcPts val="499"/>
              </a:spcBef>
              <a:buClr>
                <a:srgbClr val="ccffff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ff"/>
                </a:solidFill>
                <a:latin typeface="Arial Unicode MS"/>
              </a:rPr>
              <a:t>Esempio: ppp.unipv.it</a:t>
            </a:r>
            <a:endParaRPr b="0" lang="en-US" sz="20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15" name="Immagine 4" descr="pppmuseo.jpg"/>
          <p:cNvPicPr/>
          <p:nvPr/>
        </p:nvPicPr>
        <p:blipFill>
          <a:blip r:embed="rId1"/>
          <a:stretch/>
        </p:blipFill>
        <p:spPr>
          <a:xfrm>
            <a:off x="5207040" y="2786040"/>
            <a:ext cx="3936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web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980720"/>
            <a:ext cx="89917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Primi anni 2000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Web come fenomeno centrale per la divulgazione del patrimonio culturale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rogetti di digitalizzazion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Creazione di reti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rimi progetti 3D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4" marL="1974960" indent="-219240">
              <a:spcBef>
                <a:spcPts val="499"/>
              </a:spcBef>
              <a:buClr>
                <a:srgbClr val="ccffff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Arial Unicode MS"/>
            </a:endParaRPr>
          </a:p>
          <a:p>
            <a:pPr lvl="4" marL="1974960" indent="-219240">
              <a:spcBef>
                <a:spcPts val="499"/>
              </a:spcBef>
              <a:buClr>
                <a:srgbClr val="ccffff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ff"/>
                </a:solidFill>
                <a:latin typeface="Arial Unicode MS"/>
              </a:rPr>
              <a:t>Es ppp.unipv.it Gabinetto di Fisica di Volta - Mostra Einstein</a:t>
            </a:r>
            <a:endParaRPr b="0" lang="en-US" sz="20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15405" t="12330" r="16745" b="19530"/>
          <a:stretch/>
        </p:blipFill>
        <p:spPr>
          <a:xfrm>
            <a:off x="4992840" y="3143160"/>
            <a:ext cx="379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ostre temporane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pic>
        <p:nvPicPr>
          <p:cNvPr id="120" name="Segnaposto contenuto 3" descr="einst1.jpg"/>
          <p:cNvPicPr/>
          <p:nvPr/>
        </p:nvPicPr>
        <p:blipFill>
          <a:blip r:embed="rId1"/>
          <a:stretch/>
        </p:blipFill>
        <p:spPr>
          <a:xfrm>
            <a:off x="357120" y="1143000"/>
            <a:ext cx="84186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pic>
        <p:nvPicPr>
          <p:cNvPr id="122" name="Segnaposto contenuto 3" descr="einst2.jpg"/>
          <p:cNvPicPr/>
          <p:nvPr/>
        </p:nvPicPr>
        <p:blipFill>
          <a:blip r:embed="rId1"/>
          <a:stretch/>
        </p:blipFill>
        <p:spPr>
          <a:xfrm>
            <a:off x="214200" y="1143000"/>
            <a:ext cx="86439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web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Ultimi ann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Apertura ai visitatori: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Facebook, YouTube, Flickr, piattaforme di blog (la blogosfera si allinea e rielabora i temi proposti dalle istituzioni)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3D e prime applicazioni di realtà aumentata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Come partecipano i visitatori?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odelli di partecipazion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285840" y="1000080"/>
            <a:ext cx="9429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ntribu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Visitatori spinti a fornire contributi all’interno di un processo controllato e gestito dall’istituzion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llabora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Visitatori come partner attivi nella costruzione di un progetto ancora controllato dall’istituzion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-crea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Visitatori e istituzione lavorano insieme, dalla progettazione agli obiettivi del progetto, sulla base degli interessi e dei bisogni della comunità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opta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L’istituzione mette a disposizione di gruppi esterni mezzi e risorse per la realizzazione di progetti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27" name="CasellaDiTesto 3"/>
          <p:cNvSpPr/>
          <p:nvPr/>
        </p:nvSpPr>
        <p:spPr>
          <a:xfrm>
            <a:off x="6936840" y="6396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ccffff"/>
                </a:solidFill>
                <a:uFillTx/>
                <a:latin typeface="Times New Roman"/>
              </a:rPr>
              <a:t>Nina Sim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Tipologie di visitatori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Aut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reatori di contenuti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Recens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mmentatori, che votano e taggan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Spettat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Fruitori passivi del contenut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30" name="CasellaDiTesto 3"/>
          <p:cNvSpPr/>
          <p:nvPr/>
        </p:nvSpPr>
        <p:spPr>
          <a:xfrm>
            <a:off x="7079760" y="6396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ccffff"/>
                </a:solidFill>
                <a:uFillTx/>
                <a:latin typeface="Times New Roman"/>
              </a:rPr>
              <a:t>Nina Sim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Esempi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ffcc"/>
                </a:solidFill>
                <a:uFillTx/>
                <a:latin typeface="Arial Unicode MS"/>
                <a:hlinkClick r:id="rId1"/>
              </a:rPr>
              <a:t>www.delicious.com/doccim07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33" name="Picture 4" descr="C:\Documents and Settings\consip\Desktop\Presentazioni convegni\PISA\Storia scienza\Home.jpg"/>
          <p:cNvPicPr/>
          <p:nvPr/>
        </p:nvPicPr>
        <p:blipFill>
          <a:blip r:embed="rId2"/>
          <a:stretch/>
        </p:blipFill>
        <p:spPr>
          <a:xfrm>
            <a:off x="3274920" y="3143160"/>
            <a:ext cx="586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realtà aumentata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   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Numerosi esempi si trovano su YouTube e da essi possono essere ricavate tutte le diverse caratteristiche dei diversi tipi di realtà aumentata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Evoluzione della definizione di muse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428480"/>
            <a:ext cx="8991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ICOM (Consiglio internazionale dei musei):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15360" indent="-31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  </a:t>
            </a: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1951: il museo è l’istituzione che conserva, studia, valorizza e essenzialmente espone un insieme di elementi di valore culturale per il diletto. I beni di cui il museo si fa carico sono le collezioni di oggetti artistici, storici, scientifici e tecnici, giardini botanici e zoologici, acqua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5" name="CasellaDiTesto 3"/>
          <p:cNvSpPr/>
          <p:nvPr/>
        </p:nvSpPr>
        <p:spPr>
          <a:xfrm>
            <a:off x="214200" y="5500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ttenzione particolarmente rivolta al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atrimonio/tutela e alla esposizi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Evoluzione della definizione di muse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142640"/>
            <a:ext cx="8991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ICOM (Consiglio internazionale dei musei):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   </a:t>
            </a: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2001 (2004*): Il museo è un’istituzione permanente, senza scopo di lucro, al servizio della società e del suo sviluppo. È aperto al pubblico e compie ricerche che riguardano le testimonianze materiali e immateriali* dell’umanità e del suo ambiente; le acquisisce, le conserva, le comunica e, soprattutto, le espone a fini di studio, educazione e diletto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8" name="CasellaDiTesto 5"/>
          <p:cNvSpPr/>
          <p:nvPr/>
        </p:nvSpPr>
        <p:spPr>
          <a:xfrm>
            <a:off x="357120" y="5934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Maggiore apertura verso la società, i bisogni e le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aspettative dei visitatori e ad una crescente attenzione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verso gli aspetti comunicativi ed educativi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Professioni museali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1920" y="1428480"/>
            <a:ext cx="89917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ccffff"/>
                </a:solidFill>
                <a:latin typeface="Arial"/>
                <a:ea typeface="Times New Roman"/>
              </a:rPr>
              <a:t>Alle figure “classiche” di esperti museali, come i curatori delle collezioni, si affiancano, e vengono professionalmente riconosciuti, gli esperti di didattica, o, meglio, di “apprendimento” museale  e, più recentemente, gli esperti di informatica e comunicazione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 u="sng">
                <a:solidFill>
                  <a:srgbClr val="00ffcc"/>
                </a:solidFill>
                <a:uFillTx/>
                <a:latin typeface="Arial"/>
                <a:ea typeface="Times New Roman"/>
                <a:hlinkClick r:id="rId1"/>
              </a:rPr>
              <a:t>Carta nazionale delle professioni museal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  <a:ea typeface="Times New Roman"/>
              </a:rPr>
              <a:t>Museo come istituzione educativa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1981080"/>
            <a:ext cx="877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Arial"/>
              </a:rPr>
              <a:t>   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Arial"/>
              </a:rPr>
              <a:t>Stabilito che tra gli scopi dei musei sempre più importanza viene attribuita agli aspetti educativi,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cffff"/>
                </a:solidFill>
                <a:latin typeface="Arial Unicode MS"/>
                <a:ea typeface="Arial"/>
              </a:rPr>
              <a:t>A quale teoria educativa ci si riferisce oggi?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6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Visitatori al centro dell’attenzion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920" y="4071960"/>
            <a:ext cx="89917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Spostamento dell’attenzione dal museo e dal suo modo di trasferire la conoscenza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 ai processi di apprendimento dei visitat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267480" indent="-267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Educatore museale come facilitatore dell’apprendimento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267480" indent="-267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05" name="Immagine 3" descr="visitat1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419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  <a:ea typeface="Times New Roman"/>
              </a:rPr>
              <a:t>Dalla didattica all’apprendiment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85840" y="1679400"/>
          <a:ext cx="8610480" cy="41785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dattica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368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pprendimento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1368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Sistema didattic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ersone, visitatori, fruitori, studenti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Sistemi di trasmissione didattica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Valori, desideri, stili di apprendimento preferiti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rodotti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rocessi di apprendiment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Gestione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Facilitazione, abilitazione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ersonale e problematiche del muse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368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Fruitori del muse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368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CasellaDiTesto 5"/>
          <p:cNvSpPr/>
          <p:nvPr/>
        </p:nvSpPr>
        <p:spPr>
          <a:xfrm>
            <a:off x="374760" y="628668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Eliean Hooper-Greenhill, Musei: didattica, apprendimento ed edutainment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Caratteri distintivi del processo educativo museal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Ambiente di apprendimento speciale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Informale, coinvolgente, divertente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Enfasi sulle componenti attive e collaborative del processo di apprendimento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Strategie di problem solving, exhibit interattivi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Oggetto originale come documento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Contenitore di conoscenza, informazione, contest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7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La visita al muse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1920" y="1285560"/>
            <a:ext cx="8991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è più efficace se p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receduta e seguita da un lavoro svolto individualmente o in classe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Materiali a disposizione dei visitatori e interazione-collaborazione via web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Corsi di aggiornamento per insegnanti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Museo come risorsa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Oggetti originali, exhibit, laboratori, sito internet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29:36Z</dcterms:created>
  <dc:creator>Lab Tecn educ</dc:creator>
  <dc:description/>
  <dc:language>en-US</dc:language>
  <cp:lastModifiedBy>Lidia</cp:lastModifiedBy>
  <dcterms:modified xsi:type="dcterms:W3CDTF">2010-12-17T15:33:01Z</dcterms:modified>
  <cp:revision>98</cp:revision>
  <dc:subject/>
  <dc:title>Laboratori storico-scientifici 2.0</dc:title>
</cp:coreProperties>
</file>